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421-1324-4C15-8B27-31C7E652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06D-86E8-4664-9B52-4E2FAF6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F75-414E-410C-A9EE-5E8FA8E9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EDF-D76F-4384-829D-69A6BD31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E27C7-EA73-47F5-89E8-27FECEC0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1C92F-F1B4-48A1-A8BB-F1FCAA83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EF1CA-0ACF-48FD-94C7-714652CF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40AC-E70D-4B61-9E3F-3590A562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9D7F5-1C2E-492E-A442-2373418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701BB-2D0C-4597-AED3-3B043063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33981-ABB6-4F0B-98A5-B271DE00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37F-F06A-49E7-A587-E8D60167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51027-4433-4F71-A18A-0B1844D8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DF22F-1C1D-4C83-A10F-27570CF5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51816-0C33-44A0-AD74-E0DC4C8F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F305C-4462-44EB-A122-F5AEC583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C88CF-3783-43C3-91A8-35D14D73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233-CE2C-4DEE-AC9C-8926D746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088-71C7-41E4-BC6B-BAB24AE9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AF9-3F4C-49E6-92D5-A3F503AE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121-D147-4B15-9B03-C6B5F66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BF4-7E61-48F3-8A2C-1F865147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629-DB99-4F68-B7D7-5A02FBD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A84-278F-4E0B-BC0C-368F062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E1EC-EAAC-4E29-AA93-B6401D7297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C017-3807-4ABC-BA90-3A903CCE4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emistry.wustl.edu/~courses/genchem/Tutorials/Kidney/dynamic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83" name="Picture 1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Membran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85" name="Picture 8" descr="C:\Users\Liz\AppData\Local\Microsoft\Windows\Temporary Internet Files\Content.IE5\CPHVRLKO\MCj02296450000[1].wmf"/>
          <p:cNvPicPr/>
          <p:nvPr/>
        </p:nvPicPr>
        <p:blipFill>
          <a:blip r:embed="rId3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s show that lipid molecules can pass across the plasma membrane from an area of high concentration to an area of lower concentration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which process do the molecules move across the plasma membrane?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the cell expend energy?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6934320" y="518148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1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1" y="20200"/>
                </a:lnTo>
                <a:lnTo>
                  <a:pt x="27391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1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1" h="21600">
                <a:moveTo>
                  <a:pt x="143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8791" h="21600">
                <a:moveTo>
                  <a:pt x="143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8791" h="21600">
                <a:moveTo>
                  <a:pt x="11819" y="8224"/>
                </a:moveTo>
                <a:lnTo>
                  <a:pt x="15684" y="8224"/>
                </a:lnTo>
                <a:lnTo>
                  <a:pt x="15684" y="15221"/>
                </a:lnTo>
                <a:lnTo>
                  <a:pt x="16972" y="15221"/>
                </a:lnTo>
                <a:lnTo>
                  <a:pt x="16972" y="16144"/>
                </a:lnTo>
                <a:lnTo>
                  <a:pt x="11819" y="16144"/>
                </a:lnTo>
                <a:lnTo>
                  <a:pt x="11819" y="15221"/>
                </a:lnTo>
                <a:lnTo>
                  <a:pt x="13108" y="15221"/>
                </a:lnTo>
                <a:lnTo>
                  <a:pt x="13108" y="9129"/>
                </a:lnTo>
                <a:lnTo>
                  <a:pt x="11819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41:27Z</dcterms:created>
  <dc:creator>PritchaJ</dc:creator>
  <dc:description/>
  <dc:language>en-US</dc:language>
  <cp:lastModifiedBy>PritchaJ</cp:lastModifiedBy>
  <dcterms:modified xsi:type="dcterms:W3CDTF">2011-06-01T15:41:41Z</dcterms:modified>
  <cp:revision>1</cp:revision>
  <dc:subject/>
  <dc:title>Slide 1</dc:title>
</cp:coreProperties>
</file>